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applause.wav" ContentType="audio/x-wav"/>
  <Override PartName="/ppt/media/drumroll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651-CA50-4E58-AA9D-63B9AFB7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A04-C119-4B8D-99BC-A924CE9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144-E038-4C1C-BDED-240F1DDF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708-8419-4341-B458-5477CBAC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10A-B5C4-4790-9D38-52A0E2A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7AA-24BA-42DB-991B-A0F14FA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330-0B21-4FE3-B7BA-BAB19B4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8D3-81E1-42CD-B65E-287D489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A5D-7914-4928-88F8-59DC9F6A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9FC-8101-4952-8C4C-9A4DB36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154-F156-4EDC-A394-06998C4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9E5-A08F-486E-B692-84242D27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2f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2FD-CFD3-41ED-9088-1A3F745E73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743200" y="304920"/>
            <a:ext cx="3181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Verb T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438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Verb tenses tell us when things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380988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vents can happen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bd05090_"/>
          <p:cNvPicPr/>
          <p:nvPr/>
        </p:nvPicPr>
        <p:blipFill>
          <a:blip r:embed="rId1"/>
          <a:stretch/>
        </p:blipFill>
        <p:spPr>
          <a:xfrm>
            <a:off x="380880" y="304920"/>
            <a:ext cx="174960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bd04907_"/>
          <p:cNvPicPr/>
          <p:nvPr/>
        </p:nvPicPr>
        <p:blipFill>
          <a:blip r:embed="rId2"/>
          <a:stretch/>
        </p:blipFill>
        <p:spPr>
          <a:xfrm flipH="1">
            <a:off x="6934320" y="228600"/>
            <a:ext cx="1930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2362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152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has already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28600" y="3809880"/>
            <a:ext cx="8915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alk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shouted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ra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an02347_"/>
          <p:cNvPicPr/>
          <p:nvPr/>
        </p:nvPicPr>
        <p:blipFill>
          <a:blip r:embed="rId1"/>
          <a:stretch/>
        </p:blipFill>
        <p:spPr>
          <a:xfrm>
            <a:off x="5562720" y="2209680"/>
            <a:ext cx="31636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Pres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5238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is actually hap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388620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walk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shou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m runn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an02347_"/>
          <p:cNvPicPr/>
          <p:nvPr/>
        </p:nvPicPr>
        <p:blipFill>
          <a:blip r:embed="rId1"/>
          <a:stretch/>
        </p:blipFill>
        <p:spPr>
          <a:xfrm>
            <a:off x="3505320" y="2362320"/>
            <a:ext cx="31636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30492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3716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is is when an event has not taken place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" y="34290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359568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wal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ross to buy some sweets from the 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shou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y brother in the play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will ru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wn the lane with the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an02347_"/>
          <p:cNvPicPr/>
          <p:nvPr/>
        </p:nvPicPr>
        <p:blipFill>
          <a:blip r:embed="rId1"/>
          <a:stretch/>
        </p:blipFill>
        <p:spPr>
          <a:xfrm>
            <a:off x="914400" y="2209680"/>
            <a:ext cx="3164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609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ok at each of these sentences and decide what tense it has been written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19051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e went for a wal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4114800" y="175248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7200" y="373392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George will rush into school to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6629400" y="3276720"/>
            <a:ext cx="128592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57200" y="49528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ity beat United 6-0 last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095880" y="4876920"/>
            <a:ext cx="99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68580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ucy will be driving me to school tod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7467480" y="533520"/>
            <a:ext cx="981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2133720"/>
            <a:ext cx="830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 am smelling my supper cooking in the kitche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905120" y="2514600"/>
            <a:ext cx="132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09480" y="4038480"/>
            <a:ext cx="723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Shelley will be coming for lunch on Sun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2057400" y="4343400"/>
            <a:ext cx="113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6858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make the following sentences into the past, the present and the future te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04920" y="2438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 like going to Manchester with my 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373392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ike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iked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like going to Manchester with my Mum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j0078766"/>
          <p:cNvPicPr/>
          <p:nvPr/>
        </p:nvPicPr>
        <p:blipFill>
          <a:blip r:embed="rId1"/>
          <a:stretch/>
        </p:blipFill>
        <p:spPr>
          <a:xfrm>
            <a:off x="0" y="5381640"/>
            <a:ext cx="1503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" y="533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 will laugh at the clown in the cir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167652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am laughing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laughed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laugh at the clown in the circus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3733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 swam in the pool on Wednesday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4724280"/>
            <a:ext cx="8839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am swimming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RES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swam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PA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 will swim in the pool on Wednesday.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7200" y="60948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memb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henever you are writing you should try to stay in the same tens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bs00216_"/>
          <p:cNvPicPr/>
          <p:nvPr/>
        </p:nvPicPr>
        <p:blipFill>
          <a:blip r:embed="rId1"/>
          <a:stretch/>
        </p:blipFill>
        <p:spPr>
          <a:xfrm>
            <a:off x="3962520" y="2666880"/>
            <a:ext cx="32320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0:22:46Z</dcterms:created>
  <dc:creator>Jo Parkinson</dc:creator>
  <dc:description/>
  <dc:language>en-US</dc:language>
  <cp:lastModifiedBy>Jason Brazeau</cp:lastModifiedBy>
  <dcterms:modified xsi:type="dcterms:W3CDTF">2012-12-02T19:28:07Z</dcterms:modified>
  <cp:revision>20</cp:revision>
  <dc:subject/>
  <dc:title>PowerPoint Presentation</dc:title>
</cp:coreProperties>
</file>